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2CA-4274-463C-B5CA-95A7EE18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B962-190D-4717-ADEC-858F0368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D68-7292-4EAA-8E31-C0AC04B0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E33-FEE4-4C64-83FE-5076B605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2F6-105D-4FDB-9D56-7B2D63D1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A01-DFE1-4764-BA39-C99FCA13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381-3CDA-43BD-B71D-45953C4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ED3-9281-4EDA-8D34-9F9FA917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49C-2FC8-4FC4-B042-8BA2FA11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982-1D29-4E00-8038-5FA7BDC0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A932-6A6B-4C07-B31C-FF951053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28A-B5A1-445F-8329-3062781A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7E3-41E2-47DF-9114-4E6BCC5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669-E510-4C7F-9A8D-719C5E2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4874-50EA-4226-B896-FEEEE03F3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ina Lab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mina La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mina Labane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943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28600" y="510552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6765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¿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mo estas? Mi nombre es Amina &lt;3 Yo vivo en New York City. Tengo catorce años. No tengo hermanos. Yo soy divertida, inteligente y simpática. Estoy feliz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En una relación con Just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533520" y="5715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895480" y="365760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895480" y="3048120"/>
            <a:ext cx="495324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95480" y="243828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udio y limpio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Buenas noches! Hasta mañana!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 secpnd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95480" y="426708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480060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541008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819520" y="190512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n mis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Screen Shot 2012-12-04 at 9.53.06 AM.png"/>
          <p:cNvPicPr/>
          <p:nvPr/>
        </p:nvPicPr>
        <p:blipFill>
          <a:blip r:embed="rId1"/>
          <a:stretch/>
        </p:blipFill>
        <p:spPr>
          <a:xfrm>
            <a:off x="2133720" y="4267080"/>
            <a:ext cx="60948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Screen Shot 2012-12-04 at 9.56.14 AM.png"/>
          <p:cNvPicPr/>
          <p:nvPr/>
        </p:nvPicPr>
        <p:blipFill>
          <a:blip r:embed="rId2"/>
          <a:stretch/>
        </p:blipFill>
        <p:spPr>
          <a:xfrm>
            <a:off x="2209680" y="4800600"/>
            <a:ext cx="533520" cy="5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4" descr="Screen Shot 2012-12-04 at 9.56.14 AM.png"/>
          <p:cNvPicPr/>
          <p:nvPr/>
        </p:nvPicPr>
        <p:blipFill>
          <a:blip r:embed="rId3"/>
          <a:stretch/>
        </p:blipFill>
        <p:spPr>
          <a:xfrm>
            <a:off x="152280" y="457200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Screen Shot 2012-12-04 at 9.53.06 AM.png"/>
          <p:cNvPicPr/>
          <p:nvPr/>
        </p:nvPicPr>
        <p:blipFill>
          <a:blip r:embed="rId4"/>
          <a:stretch/>
        </p:blipFill>
        <p:spPr>
          <a:xfrm>
            <a:off x="1143000" y="4572000"/>
            <a:ext cx="65556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Photo on 12-5-12 at 9.47 AM.jpg"/>
          <p:cNvPicPr/>
          <p:nvPr/>
        </p:nvPicPr>
        <p:blipFill>
          <a:blip r:embed="rId5"/>
          <a:stretch/>
        </p:blipFill>
        <p:spPr>
          <a:xfrm>
            <a:off x="609480" y="5334120"/>
            <a:ext cx="609840" cy="406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hoto on 12-5-12 at 9.47 AM.jpg"/>
          <p:cNvPicPr/>
          <p:nvPr/>
        </p:nvPicPr>
        <p:blipFill>
          <a:blip r:embed="rId6"/>
          <a:stretch/>
        </p:blipFill>
        <p:spPr>
          <a:xfrm>
            <a:off x="2133720" y="6019920"/>
            <a:ext cx="60948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895480" y="54864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@Jamie y Amina! Nosotras tenemos que ir a comprar juntas. Esta energic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3 hours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Screen Shot 2012-12-04 at 9.53.06 AM.png"/>
          <p:cNvPicPr/>
          <p:nvPr/>
        </p:nvPicPr>
        <p:blipFill>
          <a:blip r:embed="rId7"/>
          <a:stretch/>
        </p:blipFill>
        <p:spPr>
          <a:xfrm>
            <a:off x="2057400" y="5410080"/>
            <a:ext cx="685800" cy="54468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895480" y="4724280"/>
            <a:ext cx="65534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Just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pasa? Tu eres muy bonita. ¿Puedes venir a mi casa? ;) Ellos son cans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0 minutes ago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895480" y="4114800"/>
            <a:ext cx="6248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@Justin, Amina no puede ir a tu casa. conmigo y Jamie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5 minutes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895480" y="3657600"/>
            <a:ext cx="510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 siento mis amigo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@Justin, @Jamie@ Carmela. Yo puedo ven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 minutes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7"/>
          <p:cNvSpPr/>
          <p:nvPr/>
        </p:nvSpPr>
        <p:spPr>
          <a:xfrm>
            <a:off x="2895480" y="601992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na! ¿A dónde quieres ir a comprar?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5 hours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IMG_3781.JPG"/>
          <p:cNvPicPr/>
          <p:nvPr/>
        </p:nvPicPr>
        <p:blipFill>
          <a:blip r:embed="rId8"/>
          <a:stretch/>
        </p:blipFill>
        <p:spPr>
          <a:xfrm>
            <a:off x="304920" y="1371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3" descr="IMG_3781.JPG"/>
          <p:cNvPicPr/>
          <p:nvPr/>
        </p:nvPicPr>
        <p:blipFill>
          <a:blip r:embed="rId9"/>
          <a:stretch/>
        </p:blipFill>
        <p:spPr>
          <a:xfrm>
            <a:off x="2209680" y="36576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2930040" y="3048120"/>
            <a:ext cx="5029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Por que comprar es divertido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 minute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Photo on 12-5-12 at 9.47 AM.jpg"/>
          <p:cNvPicPr/>
          <p:nvPr/>
        </p:nvPicPr>
        <p:blipFill>
          <a:blip r:embed="rId10"/>
          <a:stretch/>
        </p:blipFill>
        <p:spPr>
          <a:xfrm>
            <a:off x="2133720" y="304812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6" descr="IMG_3781.JPG"/>
          <p:cNvPicPr/>
          <p:nvPr/>
        </p:nvPicPr>
        <p:blipFill>
          <a:blip r:embed="rId11"/>
          <a:stretch/>
        </p:blipFill>
        <p:spPr>
          <a:xfrm>
            <a:off x="2209680" y="2438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31Z</dcterms:modified>
  <cp:revision>123</cp:revision>
  <dc:subject/>
  <dc:title>Profile</dc:title>
</cp:coreProperties>
</file>